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2C34D-95FE-4A2D-B426-6B4E105AE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94295-7F32-4AAB-AD09-3B3FBBDD2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0E327-B7D2-45CB-856A-FEBEBDF2D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D3577-0315-41E7-900A-D6BE1063A1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E3B5-4105-4E25-B6F8-A3436FE3F4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11F4-297A-45AB-BD23-2466DCDD28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8D420-953E-464E-A5B8-B5B570627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E015DD6-19DC-4035-AF55-564A488C3D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609536-0755-4AB9-95DA-38F7BC123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63613-AD7B-451B-9018-159B7B5F0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DF275-2377-4207-9507-F69E05971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D6EA4-AAF4-41D6-941C-0EF3CA5D5B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5F1A-AE76-466A-82B2-3C3C33ED36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FA04-26DB-4D16-A0B7-60F7CA24EE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5</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8D5C-9037-4434-952E-4F99A8ED08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CE8B-7449-41D8-98E6-2575B0259D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28A7-855B-4424-A24F-D31838EEC6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44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1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56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8928-3607-4253-9492-B6FA94CDDB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4A16-545D-444E-BF77-2F7611A54F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B709-B2C5-4448-A851-A1BB271948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FE69-066A-4732-85EB-B6FAB0ADE1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A21D-14F6-4241-A359-305E931809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31A9-9627-4662-A4B2-69DF99E5D8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C888-86C4-4AA4-B65E-89B896AB9C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73AF-D214-4C78-9819-5972EB8056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3383-EF05-4BEE-8E89-5EDA9C305C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6571-014B-469A-A396-DB0EFDE928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07DE-E322-4BB6-8EA2-F4714321ED2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6F31-C919-4EE2-846E-48C65D310C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E254-4EA0-49A3-9FA9-817E7B323B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DC49-C44E-447A-BA13-BC44815F90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User</cp:lastModifiedBy>
  <dcterms:modified xsi:type="dcterms:W3CDTF">2011-08-14T16:29:55Z</dcterms:modified>
  <cp:revision>25</cp:revision>
  <dc:subject/>
  <dc:title>&lt;Title&gt;</dc:title>
</cp:coreProperties>
</file>